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817-F8A8-4FE7-BDAF-04DBD47B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3BE-FEB7-4839-B422-81BC3C3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B10-8BA1-4283-9F01-9A3DD4CB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3D8-C473-4855-B676-34FA0EE3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C508-965E-4CA1-97E4-0BE8E243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F6263-64C6-4902-9DE2-CBCA949E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4606-8B41-47D2-A0E8-0FD32136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86CB-B72C-437A-846E-E090FEE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DA13-EFD6-4C17-A802-B463BA8D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DD04D-84E7-406D-9644-28FC2B9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2C7C-80F1-4460-B607-9DB89A65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693-D1BA-4084-B211-7686A79D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81800-BB9B-48D8-BD9D-DC5CA8D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B0F9F-DF59-4974-AE88-CEE7EAC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44BC5-8FAD-4C5F-95DD-9D246F8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4ADE-6300-4AE3-B0CE-91676E67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1F14C-280D-4CAA-9B82-90119ECC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922-F316-403F-9CAE-110BABB6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A42-A8B1-46BB-9F98-E04AD9B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E17-336A-4B51-92F5-ACCFDD82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C93-99FE-4A42-A112-2F67943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464-4E15-489A-A48E-85F208A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74D-600C-4F9E-87FE-EE5DAAEB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7EA-D114-40A8-82B2-4233E0A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ABCC-EEF1-40C1-8026-D1914E2B4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73B-678B-46CF-B5EC-4152097037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8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Итоги сдачи годовой бюджетной отчетности за 2009 год и особенности формирования бюджетной отчетности в 2010 год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Особенности заполнения отдельных форм Пояснительной записк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255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дения о количестве подведомственных получателей бюджетных средств                            (ф. 05031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6370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главе 100 «Федеральное казначейство» заполняются графы по разделу классификации расходов бюджета 01 и строке «Всего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начало отчетного периода – графы 2, 3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конец отчетного периода – графы 5, 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чины отклонений отражаются по графе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6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дения об исполнении бюджета                     (ф. 050316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557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874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349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оответствии с положениями п. 147 Инструкции, утвержденной приказом Минфина России от 13.11.2008 № 128н, данные по разделу «Доходы бюджета» заполняются только по 010 итоговой строке. Разбивка по классификациям не отраж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причине отсутствия плановых (прогнозных) показателей по дохо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дения о кассовом исполнении смет доходов и расходов по приносящей доход деятельности (ф. 050318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2194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оответствии с положениями п. 159 Инструкции, утвержденной приказом Минфина России от 13.11.2008 № 128н, в разрезе строк по бюджетной классификации отражаются показатели, по которым в результате кассового исполнения имеются отклонения между показателями утвержденных сметных назначений и показателями кассового исполнения сметы доходов и расходов по приносящей доход деятельности за отчетный пери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отсутствии сметных назначений данные заполняются только по итоговым стро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формировании бюджетной отчетности в 2010 году необходимо обратить внимание на следующе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тавление бюджетной отчетности в центральный аппарат должно осуществляться в строгом соответствии с утвержденными сроками сдачи и в установленном поряд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числение авансовых платежей допускается в случаях и в объемах, установленных п. 8 Постановления Правительства Российской Федерации от 31.12.2009 № 1181 «О мерах по реализации Федерального закона «О федеральном бюджете на 2010 год и на плановый период 2011 и 2012 годов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 за выполнением контрагентами условий заключенных контрактов и договоров должен осуществляться в постоянном режи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ям Управлений рекомендуется взять под личный контроль состояние расчетов по недостачам и хищениям материальных ценностей, принять эффективные меры по каждому конкретному случа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результатам 2009 года показатели годовой бюджетной  отчетности должны быть проинвентаризированы в части кредиторской и дебиторской  задолженности с целью их сокращения по итогам 2010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оме того, Федеральное казначейство настоятельно рекомендует в течение 2010 года согласовать документы по передаче имущества в части сумм, счетов бюджетного учета, кодов глав с организациями-контрагентами, с целью предъявления согласованных документов в центральный аппарат Федерального казначейства при сдаче годовой отчетности и дальнейшего их применения при анализе расхождений с отчетными данными по другим гла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кументы, содержащие разъяснения по заполнению форм квартальной и годовой бюджетной отчет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Перечень основных документов, регламентирующих порядок формирования бюджетной отчетности и Пояснительной записки в 2010 году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струкция о порядке составления и представления годовой, квартальной и месячной отчетности об исполнении бюджетов бюджетной системы Российской Федерации, утвержденная приказом Министерства финансов Российской Федерации от 13.11.2008 № 128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93372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ъяснения особенностей составления и представления годовой отчетности об исполнении федерального бюджета главными распорядителями средств федерального бюджета, главными администраторами доходов федерального бюджета, главными администраторами источников финансирования дефицита федерального бюджета за 2009 год, приведенные в приложении к письму Федерального казначейства от 31.12.2009 № 42-7.4-05/2.4-78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58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орядок заполнения         ф. 0503125             «Справка по консолидируемым расчетам»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каз Федерального казначейства от 30.12.2009 № 309 «О сроках и порядке представления управлениями Федерального казначейства по субъектам Российской Федерации годовой и квартальной бюджетной отчетности об исполнении бюджета по главе 100 «Федеральное казначейство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0080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068640"/>
            <a:ext cx="7869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сьмо Федерального казначейства от 20.04.2010 № 42-7.4-05/2.2-245 «Об особенностях составления и представления квартальной бюджетной отчетности главными распорядителями средств федерального бюджета, главными администраторами доходов федерального бюджета, главными администраторами источников финансирования дефицита федерального бюджета в Федеральное казначейство в 2010 год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58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окументов, обязательных к представлению в ЦА ФК при сдач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. 0503125 (14010100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ешение на осуществление пере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оряжение ТУ ФА по управлению государственным имуществом по субъекту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 приема-передачи, подписанный обеими сторон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вещение, заполненное и подписанное обеими сторон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 ф. 0503125, заверенная контраген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представления заверенных копий перечисленных выше документов бюджетная отчетность за 2010 год не будет приня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Порядок заполнения ф. 0503125 «Справка по консолидируемым расчетам»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внутриведомственные передачи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Порядок заполнения ф. 0503125 «Справка по консолидируемым расчетам»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межведомственные передачи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Порядок заполнения ф. 0503125 «Справка по консолидируемым расчетам»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межведомственные передачи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Порядок заполнения ф. 0503125 «Справка по консолидируемым расчетам»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финансирование участников из бюджетов разных уровней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Порядок заполнения ф. 0503125 «Справка по консолидируемым расчетам»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финансирование участников из бюджетов разных уровней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условии достоверности отчетных данных итоговая величина по соответствующему коду бюджетной классификации в ф. 0503125,               ф. 0503110 и ф. 0503121 должна быть ра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. 0503125 (10011040000000000140101251) = 220 000.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. 0503110 (00011040011500000140101251) = 220 000.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. 0503121 (КОСГУ 251) = общий итог по всем КБК ф. 0503125 (140101251) = 520 000.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3:23:25Z</dcterms:created>
  <dc:creator>2225</dc:creator>
  <dc:description/>
  <dc:language>en-US</dc:language>
  <cp:lastModifiedBy>2225</cp:lastModifiedBy>
  <dcterms:modified xsi:type="dcterms:W3CDTF">2010-06-28T11:13:30Z</dcterms:modified>
  <cp:revision>30</cp:revision>
  <dc:subject/>
  <dc:title>Показатели строк 411 «поступления на счета бюджетов» и 412 «выбытия со счетов бюджетов» ф.0503121 «Отчет о финансовых результатах деятельности»</dc:title>
</cp:coreProperties>
</file>