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6F8-2E8B-4649-AA44-E30AA636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913-7134-462D-A178-0D67086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61B-EFF8-4917-8605-2AA9974E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C88-2850-4EAA-945B-D239EFF9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2E58-DDED-4E1C-B9C4-8A3AD880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382-1651-4467-A2A6-DABDD684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5C18-5321-44B2-8870-FDACC14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2D90-C86D-417E-9AD4-E23E873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8F0-C1FD-4138-84C2-B1DA088C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7586-46AB-4AB4-A300-C30E229D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595-01D2-419C-ABC8-3EE59D6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5DC-D0E9-428C-8955-61308279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2B43-6D2A-4546-A7A2-2A71EB7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AF80-417E-4CCE-9526-2F38F98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665D-8E8E-4399-9BDC-182FDD62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AA49-33C3-4465-8DD2-B0367504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D15F-69DB-476E-97E2-FA47940A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87A-22B7-4C2B-9AAB-4C212CB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904-DE94-4233-A844-F62D57B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B3D-08B9-48D4-9A55-4328484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FF0-EDA9-4972-8411-FF968CC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02A-FBF2-4765-BA08-4814BF2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E41-9F5F-4397-8B6B-7D75396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2EB-17C0-460C-BFAD-4276FCB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20C-DA7B-4F5B-A9DB-0684CDB38D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64C-2963-423F-BE08-8C921C2B5E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91856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ктика реализации приказа Федерального казначейства от 28.07.2008 № 195 «Об утверждении порядка планирования бюджетных расходов по ведомственным целевым программам и непрограммной деятельности Федерального казначейства» в ППО «Аксиок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 на примере центрального аппарата Федерального казначейства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68360" y="5546880"/>
            <a:ext cx="64072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692000"/>
            <a:ext cx="791856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cc"/>
                </a:solidFill>
                <a:latin typeface="Arial"/>
              </a:rPr>
              <a:t>Некоторые вопросы по оплате труда федеральных государственных гражданских служащих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29604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cc"/>
                </a:solidFill>
                <a:latin typeface="Arial"/>
              </a:rPr>
              <a:t>Нормативная база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й закон от 27.04.2004 № 79-ФЗ «О государственной гражданской службе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25.07.2006 № 763 «О денежном содержании Федеральных государственных гражданских служащи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оссийской Федерации от 06.09.2007 № 562 «Об утверждении правил исчисления денежного содержания федеральных государственных гражданских служащи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cc"/>
                </a:solidFill>
                <a:latin typeface="Arial"/>
              </a:rPr>
              <a:t>Федеральный закон от 24.07.2009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</a:rPr>
              <a:t>№ 212-ФЗ «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»</a:t>
            </a:r>
            <a:br>
              <a:rPr sz="2800"/>
            </a:b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3644640"/>
            <a:ext cx="8147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суммы, не подлежащие обложению страховыми взносами для плательщиков страховых взносов, производящих выплаты и иные вознаграждения физическим лиц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татья 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13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енные пособия, в том числе пособие по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езработи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омпенсационные выплаты, связанны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возмещением вреда, причиненного увечьем или иным повреждением здоро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вольнением, за исключением компенсации за неиспользованный отпу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возмещением расходов на профессиональную подготовку, переподготовку и повышение квалифик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расходами физического лица в связи выполнением работ, оказанием услуг гражданско-правового харак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трудоустройством работников, уволенных по сокращению численности или штата, реорганизацией или ликвидацией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выполнением физическим лицом трудовых обяза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уммы единовременной материальной помощ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ческим лицам в связи со стихийным бедств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нику в связи со смертью члена его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рождении ребенка в течении первого года жизни, но не более 50 0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тоимость проезда работников и членов их семей к месту проведения отпуска и обрат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уммы материальной помощи работникам, не превышающие   4 000 рублей на одного работника за расчетный пери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уммы оплаты за обучение по основным и дополнительным профессиональным программ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уммы выплат и иных вознаграждений по трудовым договорам и гражданско-правовым договор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buClr>
                <a:srgbClr val="d9d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9d9ff"/>
                </a:solidFill>
                <a:latin typeface="Arial"/>
              </a:rPr>
              <a:t>Порядок представления расчетов по начисленным и уплаченным страховым взносам плательщиками страховых взносов, производящими выплаты и иные вознаграждения физическим лицам, в 2010 году</a:t>
            </a:r>
            <a:br>
              <a:rPr sz="2800"/>
            </a:br>
            <a:r>
              <a:rPr b="0" lang="en-US" sz="28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3357720"/>
            <a:ext cx="8147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тельщики страховых взносов, у которых среднесписочная численность физических лиц, в пользу которых производятся выплаты и иные вознаграждения, за предшествующий расчетный период превышает 100 человек, в 2010 году представляют расчеты по начисленным и уплаченным страховым взносам  в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онной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cc"/>
                </a:solidFill>
                <a:latin typeface="Arial"/>
              </a:rPr>
              <a:t>Расчет среднего заработка для исчисления пособия по временной нетрудоспособности и в связи с материнством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й закон от 29.12.2006 № 255 ФЗ «Об обязательном социальном страховании на случай временной нетрудоспособности и в связи с материнством» (ст. 14 п.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ий заработок, исходя из которого исчисляются пособия по временной нетрудоспособности включаются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се виды выплат и иных вознаграждений в пользу работника, которые включаются в базу для начисления страховых взносов в Фонд социального страхования РФ в соответствии с Федеральным законом от 24.07.2009 № 212-Ф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cc"/>
                </a:solidFill>
                <a:latin typeface="Arial"/>
              </a:rPr>
              <a:t>Возврат денежных средств от органов Фонда социального страхования Российской Федерации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ление Фонда социального страхования Российской Федерации от 09.03.2007 № 22 «Об утверждении Инструкции о порядке учета и расходования средств обязательного социального страхования» (глав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. 3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сьменное заявление страхов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4 – ФСС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пии платежных поруч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ренные копии документов, подтверждающих расходы по обязательному социальному страхо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следовательность формирования расчета расходов центрального аппарата Федерального казначейства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465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341360"/>
            <a:ext cx="1439640" cy="1800360"/>
          </a:xfrm>
          <a:prstGeom prst="foldedCorner">
            <a:avLst>
              <a:gd name="adj" fmla="val 29657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Совмещ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распред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штат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численности 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бюджет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сметой ЦА 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4360" y="1341360"/>
            <a:ext cx="1440000" cy="1800360"/>
          </a:xfrm>
          <a:prstGeom prst="foldedCorner">
            <a:avLst>
              <a:gd name="adj" fmla="val 29657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Внес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дан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в ПП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«АКСИОК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NET</a:t>
            </a: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1341360"/>
            <a:ext cx="1511280" cy="1871640"/>
          </a:xfrm>
          <a:prstGeom prst="foldedCorner">
            <a:avLst>
              <a:gd name="adj" fmla="val 28152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Свод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табл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распред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штат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числе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ЦА 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268280"/>
            <a:ext cx="1368360" cy="2089440"/>
          </a:xfrm>
          <a:prstGeom prst="foldedCorner">
            <a:avLst>
              <a:gd name="adj" fmla="val 21925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Сбор инфор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мации о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функциональ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структур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подраздел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ЦА 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645000"/>
            <a:ext cx="1368360" cy="2232000"/>
          </a:xfrm>
          <a:prstGeom prst="foldedCorner">
            <a:avLst>
              <a:gd name="adj" fmla="val 24361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Сбор инфор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мации о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обеспечиваю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щ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структур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подраздел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ЦА 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5640" y="3645000"/>
            <a:ext cx="1513080" cy="2016000"/>
          </a:xfrm>
          <a:prstGeom prst="foldedCorner">
            <a:avLst>
              <a:gd name="adj" fmla="val 25944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Рас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процент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соотнош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ВЦ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3645000"/>
            <a:ext cx="1511640" cy="1944720"/>
          </a:xfrm>
          <a:prstGeom prst="foldedCorner">
            <a:avLst>
              <a:gd name="adj" fmla="val 29657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Распредел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непрограмм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по ВЦ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0360" y="3645000"/>
            <a:ext cx="1439640" cy="1871640"/>
          </a:xfrm>
          <a:prstGeom prst="foldedCorner">
            <a:avLst>
              <a:gd name="adj" fmla="val 27379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Распредел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сум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непрограмм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1916280"/>
            <a:ext cx="1225800" cy="3313080"/>
          </a:xfrm>
          <a:prstGeom prst="foldedCorner">
            <a:avLst>
              <a:gd name="adj" fmla="val 21115"/>
            </a:avLst>
          </a:prstGeom>
          <a:solidFill>
            <a:srgbClr val="66cc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аспредел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числе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уководит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ля ФК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помощ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уководит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ля Ф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заместит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уководит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ля 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263700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400536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781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21300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35640" y="4437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314172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93080" y="206064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28000" y="3068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Сбор информации от функциональных структурных подразделений центрального аппарата </a:t>
            </a:r>
            <a:br>
              <a:rPr sz="1800"/>
            </a:b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Федерального казначейства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3887640"/>
        </p:xfrm>
        <a:graphic>
          <a:graphicData uri="http://schemas.openxmlformats.org/drawingml/2006/table">
            <a:tbl>
              <a:tblPr/>
              <a:tblGrid>
                <a:gridCol w="365040"/>
                <a:gridCol w="928800"/>
                <a:gridCol w="622440"/>
                <a:gridCol w="552240"/>
                <a:gridCol w="824040"/>
                <a:gridCol w="869760"/>
                <a:gridCol w="892440"/>
                <a:gridCol w="965160"/>
                <a:gridCol w="776160"/>
                <a:gridCol w="774720"/>
                <a:gridCol w="65880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.И.О. сотрудн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едомственные целевые программы Федерального казначей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.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ое управ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бюджетного учета и отчет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совершенствования функциональной деятель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информационных систе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режима секретности и безопасности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Сбор информации от обеспечивающих структурных подразделений центрального аппарата </a:t>
            </a:r>
            <a:br>
              <a:rPr sz="1800"/>
            </a:b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Федерального казначейства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8229600" cy="3664080"/>
        </p:xfrm>
        <a:graphic>
          <a:graphicData uri="http://schemas.openxmlformats.org/drawingml/2006/table">
            <a:tbl>
              <a:tblPr/>
              <a:tblGrid>
                <a:gridCol w="365040"/>
                <a:gridCol w="928800"/>
                <a:gridCol w="622440"/>
                <a:gridCol w="552240"/>
                <a:gridCol w="824040"/>
                <a:gridCol w="869760"/>
                <a:gridCol w="889200"/>
                <a:gridCol w="182520"/>
                <a:gridCol w="785880"/>
                <a:gridCol w="776160"/>
                <a:gridCol w="774720"/>
                <a:gridCol w="65880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.И.О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едомственные целевые программы Федерального казначей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внутреннего контроля и ауди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ое управ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ое управ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дическое управ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 мобилизационной подготовки и гражданской оборо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-55440"/>
            <a:ext cx="8209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404640"/>
          <a:ext cx="8229600" cy="6264360"/>
        </p:xfrm>
        <a:graphic>
          <a:graphicData uri="http://schemas.openxmlformats.org/drawingml/2006/table">
            <a:tbl>
              <a:tblPr/>
              <a:tblGrid>
                <a:gridCol w="365040"/>
                <a:gridCol w="928800"/>
                <a:gridCol w="622440"/>
                <a:gridCol w="552240"/>
                <a:gridCol w="824040"/>
                <a:gridCol w="869760"/>
                <a:gridCol w="892440"/>
                <a:gridCol w="965160"/>
                <a:gridCol w="776160"/>
                <a:gridCol w="774720"/>
                <a:gridCol w="658800"/>
              </a:tblGrid>
              <a:tr h="23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.И.О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едомственные целевые программы Федерального казначей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 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№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3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3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.9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.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7.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ств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9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6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бюджетного учета и отчет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совершенствования функциональной деятель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внутреннего контроля и ауди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24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дическ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информационных систе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.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режима секретности и безопасности информ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 мобилизационной подготовки и гражданской оборон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Расчет процентного соотношения по ВЦП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счет процентных соотношений по ведомственным целевым программам производится по форму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щая доля по ВЦП №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*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ая сумма долей всех ВЦ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бщая доля по ВЦП № 1 * 100% 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ая сумма долей всех ВЦП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99,4 *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40,06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48320" y="1600200"/>
          <a:ext cx="4244760" cy="1878120"/>
        </p:xfrm>
        <a:graphic>
          <a:graphicData uri="http://schemas.openxmlformats.org/drawingml/2006/table">
            <a:tbl>
              <a:tblPr/>
              <a:tblGrid>
                <a:gridCol w="715680"/>
                <a:gridCol w="576360"/>
                <a:gridCol w="576360"/>
                <a:gridCol w="576360"/>
                <a:gridCol w="574560"/>
                <a:gridCol w="576360"/>
                <a:gridCol w="649080"/>
              </a:tblGrid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№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ВЦП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0.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.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.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d9ff"/>
                </a:solidFill>
                <a:latin typeface="Arial"/>
              </a:rPr>
              <a:t>Распределение непрограммной деятельности по ведомственным целевым программам 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спределение непрограммной деятельности по ведомственным целевым программам рассчитывается по форму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оля непрограммной деятельности * процентное отношение ВЦП №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ля непрограммной деятельности = 0,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центное отношение ВЦП № 1 = 41,2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изводим расчет: (0,25*41,26%)/100% = 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-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404640"/>
          <a:ext cx="8002440" cy="6396120"/>
        </p:xfrm>
        <a:graphic>
          <a:graphicData uri="http://schemas.openxmlformats.org/drawingml/2006/table">
            <a:tbl>
              <a:tblPr/>
              <a:tblGrid>
                <a:gridCol w="423720"/>
                <a:gridCol w="1209960"/>
                <a:gridCol w="988920"/>
                <a:gridCol w="414360"/>
                <a:gridCol w="619200"/>
                <a:gridCol w="652320"/>
                <a:gridCol w="671400"/>
                <a:gridCol w="723960"/>
                <a:gridCol w="582840"/>
                <a:gridCol w="671400"/>
                <a:gridCol w="565200"/>
                <a:gridCol w="479160"/>
              </a:tblGrid>
              <a:tr h="22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.И.О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отрудник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едомственные целевые программы Федерального казначей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Ц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№ </a:t>
                      </a: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2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.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35.6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4.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.8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4.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9.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2.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ств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3.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.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.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.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бюджетного учета и отчет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.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0.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финансового прогнозирования и управления единым казначейским счето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9.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.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ведомственных програм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.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6.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совершенствования функциональной деятельнос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внутреннего контроля и ауди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8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7.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0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.8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.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7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дическое управле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.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информационных систе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режима секретности и безопасности информ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 мобилизационной подготовки и гражданской оборон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9640" y="357120"/>
            <a:ext cx="8353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7:42:28Z</dcterms:created>
  <dc:creator>2453</dc:creator>
  <dc:description/>
  <dc:language>en-US</dc:language>
  <cp:lastModifiedBy>Надежда</cp:lastModifiedBy>
  <dcterms:modified xsi:type="dcterms:W3CDTF">2010-06-30T07:30:41Z</dcterms:modified>
  <cp:revision>4</cp:revision>
  <dc:subject/>
  <dc:title>Слайд 1</dc:title>
</cp:coreProperties>
</file>